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5BB12-A8C1-4971-B3FF-2EE0AEE62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B27A-DE0F-4E0F-A145-9CFE116E1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F5D00-3AC1-4C14-88E8-4A0E4AA0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F276-8416-4974-997E-48F9D621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16B33-DA17-4675-B6CE-0FD2F717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9764-F944-4507-91C8-06D67C40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D533-3E83-4B2C-9CE9-715A321B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182A2-96FD-47D9-A863-77C8DDFE6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8AF69-4D29-4C0A-855A-205F806D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2459-3544-4477-98D6-0972C62A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1516-3825-49EF-AEDE-1F83D458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6566-7A37-40B8-B3C4-787EC8F0D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B4B1-2710-4536-8FAB-73313D32C20E}"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Arial"/>
              </a:rPr>
              <a:t>Chapter 14: Technology &amp; Physical Education</a:t>
            </a:r>
            <a:br>
              <a:rPr sz="4400"/>
            </a:br>
            <a:r>
              <a:rPr b="0" lang="en-US" sz="4400" spc="-1" strike="noStrike">
                <a:solidFill>
                  <a:srgbClr val="333399"/>
                </a:solidFill>
                <a:latin typeface="Arial"/>
              </a:rPr>
              <a:t>And Our Lesson Plan</a:t>
            </a:r>
            <a:br>
              <a:rPr sz="4400"/>
            </a:b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y: Teri Mill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amp; Kate Fahey</a:t>
            </a:r>
            <a:endParaRPr b="0" lang="en-US" sz="3600" spc="-1" strike="noStrike">
              <a:solidFill>
                <a:srgbClr val="000000"/>
              </a:solidFill>
              <a:latin typeface="Arial"/>
            </a:endParaRPr>
          </a:p>
        </p:txBody>
      </p:sp>
      <p:pic>
        <p:nvPicPr>
          <p:cNvPr id="43" name="Picture 7" descr=""/>
          <p:cNvPicPr/>
          <p:nvPr/>
        </p:nvPicPr>
        <p:blipFill>
          <a:blip r:embed="rId1"/>
          <a:stretch/>
        </p:blipFill>
        <p:spPr>
          <a:xfrm>
            <a:off x="685800" y="2666880"/>
            <a:ext cx="3809880" cy="27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 Chapter 14</a:t>
            </a:r>
            <a:endParaRPr b="0" lang="en-US" sz="4400" spc="-1" strike="noStrike">
              <a:solidFill>
                <a:srgbClr val="000000"/>
              </a:solidFill>
              <a:latin typeface="Arial"/>
            </a:endParaRPr>
          </a:p>
        </p:txBody>
      </p:sp>
      <p:sp>
        <p:nvSpPr>
          <p:cNvPr id="65" name=""/>
          <p:cNvSpPr txBox="1"/>
          <p:nvPr/>
        </p:nvSpPr>
        <p:spPr>
          <a:xfrm>
            <a:off x="914400" y="205740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s are so concerned with meeting the standards in content areas that health and physical education have suffered.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quired physical education courses are decreasing, and as a consequence, young people are becoming less physically active and less aware of how to adopt a healthy lifestyle.  To make up for this deficit teachers in all content areas must promote and encourage a healthy lifestyle whenever they can.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earch indicates that there are two main culprits for the rise of childhood obesity.  The first is the decrease and/or cut of physical education classes in schools.  The second is because children are choosing to spend more time indoors watching TV and playing video games, instead of playing out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y types of self-monitoring devices and activities can be used with students in the gymnasium.  Examples of these are; heart rate monitors, pedometers, accelerometers (devices for measuring the rate of acceleration), blood pressure devices, body composition analyzers, spirometers, et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ergaming, video games that provide physical activity through interactive play, are becoming more and more popular (Nintendo wii, kinect, dance dance revolution, etc.).  These types of games should not be used to replace physical activity but make a great add on for physical education teachers to enhance their lesson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sking students to set personal goals and then monitoring their progress is motivational to the students, but often a paperwork nightmare for teachers. Tablets are now very useful for this.  In fact, tablets have been called “a physical educators new clipboar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digital video recorder can be used to record students and then play it back to show the students.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internet can be used for student to obtain a wealth of information on nutrition and fitness but they need to be taught what information is reliab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cent trend is for physical education and health classes to be held online.  In order for these types of classes to be successful they need to have a goal (ex: the student must walk 4 miles a day in one week).  Students could also keep a log of their physical activity and/or experienc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71" name=""/>
          <p:cNvSpPr txBox="1"/>
          <p:nvPr/>
        </p:nvSpPr>
        <p:spPr>
          <a:xfrm>
            <a:off x="609480" y="198108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seful Websites for Health &amp; Physical Educa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specialolympics.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cdc.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kidshealth,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pelinks4u.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kids.gov</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cahperd.or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epared for you by Group 6: Teri Miller &amp; Kate Fahe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ur Lesson Plan</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wo-day lesson with six stations to be completed over the two day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th this culminating plan we are able to integrate various types of technology into  a short period of tim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rves as a finale to the unit on dan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 Integrated the Following Technology:</a:t>
            </a:r>
            <a:endParaRPr b="0" lang="en-US" sz="4400" spc="-1" strike="noStrike">
              <a:solidFill>
                <a:srgbClr val="000000"/>
              </a:solidFill>
              <a:latin typeface="Arial"/>
            </a:endParaRPr>
          </a:p>
        </p:txBody>
      </p:sp>
      <p:sp>
        <p:nvSpPr>
          <p:cNvPr id="75" name=""/>
          <p:cNvSpPr txBox="1"/>
          <p:nvPr/>
        </p:nvSpPr>
        <p:spPr>
          <a:xfrm>
            <a:off x="685800" y="1905120"/>
            <a:ext cx="7772400" cy="4114800"/>
          </a:xfrm>
          <a:prstGeom prst="rect">
            <a:avLst/>
          </a:prstGeom>
          <a:noFill/>
          <a:ln w="0">
            <a:noFill/>
          </a:ln>
        </p:spPr>
        <p:txBody>
          <a:bodyPr anchor="t">
            <a:normAutofit fontScale="89000"/>
          </a:bodyPr>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d player</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ptop with internet access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d</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martBoard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ii game system</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ii fit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nce, Dance revolution for Wii</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Zumba for Wii</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deo recorder</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Access</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Word</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rt rate monitors</a:t>
            </a: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000000"/>
              </a:solidFill>
              <a:latin typeface="Arial"/>
            </a:endParaRPr>
          </a:p>
          <a:p>
            <a:pPr marL="305280" indent="-3052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
          <p:cNvPicPr/>
          <p:nvPr/>
        </p:nvPicPr>
        <p:blipFill>
          <a:blip r:embed="rId1"/>
          <a:stretch/>
        </p:blipFill>
        <p:spPr>
          <a:xfrm>
            <a:off x="5105520" y="2133720"/>
            <a:ext cx="24382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ations</a:t>
            </a:r>
            <a:br>
              <a:rPr sz="4400"/>
            </a:br>
            <a:endParaRPr b="0" lang="en-US" sz="4400" spc="-1" strike="noStrike">
              <a:solidFill>
                <a:srgbClr val="000000"/>
              </a:solidFill>
              <a:latin typeface="Arial"/>
            </a:endParaRPr>
          </a:p>
        </p:txBody>
      </p:sp>
      <p:sp>
        <p:nvSpPr>
          <p:cNvPr id="78"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i Fit</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oreograph your own dance</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as teachers</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ze a dance</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your own beat</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art rate monitor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5562720" y="3505320"/>
            <a:ext cx="246528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benefits of the technology:</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d player – allows for the children to follow the beat by using just audio means so there is no visual influence on their choice of word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ptop with internet access - can help the student to relate physical education to real-life and other content area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d – allows for private or individual work while in a group setting.</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martBoard and the Wii games– provide models to learn about various dances. </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deo recorder – allows the students to see themselves dancing and allows them to self-asses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Access – using access allows the students to have a year long record of their own personal work and they can see their progress. </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rt rate monitors – allows for immediate feedback and  this self-monitoring device allows the student to adjust their work out to the desired level.</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Advantages:</a:t>
            </a:r>
            <a:endParaRPr b="0" lang="en-US" sz="44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integrating technology into physical education it allows the student to be in charge of his/her own learn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nd held devices are easy to transport to the gy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st of the technology is easy se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isadvantages:</a:t>
            </a:r>
            <a:endParaRPr b="0" lang="en-US" sz="4400" spc="-1" strike="noStrike">
              <a:solidFill>
                <a:srgbClr val="000000"/>
              </a:solidFill>
              <a:latin typeface="Arial"/>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chnology has been the cause of many health and fitness problem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e do not want to bog the students down with non-physical work during class tim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chnical difficul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hysical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09480" y="190512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Quality physical education is a planned program of instruction and activity for all students throughout the entire year that develops skills and attitudes towards a healthy active life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NB PE curriculum                 </a:t>
            </a:r>
            <a:endParaRPr b="0" lang="en-US" sz="3200" spc="-1" strike="noStrike">
              <a:solidFill>
                <a:srgbClr val="000000"/>
              </a:solidFill>
              <a:latin typeface="Arial"/>
            </a:endParaRPr>
          </a:p>
        </p:txBody>
      </p:sp>
      <p:pic>
        <p:nvPicPr>
          <p:cNvPr id="46" name="Picture 5" descr=""/>
          <p:cNvPicPr/>
          <p:nvPr/>
        </p:nvPicPr>
        <p:blipFill>
          <a:blip r:embed="rId1"/>
          <a:stretch/>
        </p:blipFill>
        <p:spPr>
          <a:xfrm>
            <a:off x="6781680" y="4191120"/>
            <a:ext cx="1814760" cy="159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verall</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ildren are less physically active in part because they spend more of their free time indoors playing video games and watching television rather than outside in physical play.  This affects the motor development and the health of the youth.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le technology has added to many of the health and fitness problems, some technologies are helping to address the problems and teachers are able to integrate these technologies into the physical education lesson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ings to Remember….</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though the gymnasium can be a noisy area it is important that the teacher have control.  Having a signal that brings the students back together is importa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acher needs to pick team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dents need to be instructed on the proper way to take out and put away equi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d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afety in the Gymnasium</a:t>
            </a:r>
            <a:endParaRPr b="0" lang="en-US" sz="4400" spc="-1" strike="noStrike">
              <a:solidFill>
                <a:srgbClr val="000000"/>
              </a:solidFill>
              <a:latin typeface="Arial"/>
            </a:endParaRPr>
          </a:p>
        </p:txBody>
      </p:sp>
      <p:sp>
        <p:nvSpPr>
          <p:cNvPr id="50"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quipment must be checked regularly (first aid kit as wel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ruptive students need to be remov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acher needs to keep a constant eye on what is going 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5" descr=""/>
          <p:cNvPicPr/>
          <p:nvPr/>
        </p:nvPicPr>
        <p:blipFill>
          <a:blip r:embed="rId1"/>
          <a:stretch/>
        </p:blipFill>
        <p:spPr>
          <a:xfrm>
            <a:off x="5867280" y="4191120"/>
            <a:ext cx="1755720" cy="180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eneral Curriculum Outcomes K-12</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DOING:  Students will be expected to:</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efficient and effective movement skills and concepts. </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a functional level of activity and specific motor skills</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efficient and effective body mechanics </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an ability to coop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KNOWING</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will be expected to:</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 the principles and concepts that support active liv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 how to maintain a personal level of functional physical fitness</a:t>
            </a:r>
            <a:endParaRPr b="0" lang="en-US" sz="3200" spc="-1" strike="noStrike">
              <a:solidFill>
                <a:srgbClr val="000000"/>
              </a:solidFill>
              <a:latin typeface="Arial"/>
            </a:endParaRPr>
          </a:p>
          <a:p>
            <a:pPr marL="343080" indent="-343080">
              <a:lnSpc>
                <a:spcPct val="100000"/>
              </a:lnSpc>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understand the importance of safety rules and procedur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LUING</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will be expected to:</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positive personal &amp; social behaviors and interpersonal relationships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a positive attitude toward active living in the pursuit of lifelong health and well-be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reakdown of Categorie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Dance – 25-3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Gymnastics – 25-3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Games – 5-1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Other – 25-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
          <p:cNvPicPr/>
          <p:nvPr/>
        </p:nvPicPr>
        <p:blipFill>
          <a:blip r:embed="rId1"/>
          <a:stretch/>
        </p:blipFill>
        <p:spPr>
          <a:xfrm>
            <a:off x="6629400" y="3962520"/>
            <a:ext cx="1671480" cy="193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ough dance experiences, children gain an awareness of their own culture and other cultures, enhance their self-esteem, solve problems, express feelings, and cooperate with others.  Students are encouraged to create complex movement sequences used in different dance forms.  Dance require students to work alone, in pair, and in small and large groups</a:t>
            </a:r>
            <a:endParaRPr b="0" lang="en-US" sz="2800" spc="-1" strike="noStrike">
              <a:solidFill>
                <a:srgbClr val="000000"/>
              </a:solidFill>
              <a:latin typeface="Arial"/>
            </a:endParaRPr>
          </a:p>
        </p:txBody>
      </p:sp>
      <p:pic>
        <p:nvPicPr>
          <p:cNvPr id="63" name="Picture 4" descr=""/>
          <p:cNvPicPr/>
          <p:nvPr/>
        </p:nvPicPr>
        <p:blipFill>
          <a:blip r:embed="rId1"/>
          <a:stretch/>
        </p:blipFill>
        <p:spPr>
          <a:xfrm>
            <a:off x="5943600" y="762120"/>
            <a:ext cx="20574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02:06Z</dcterms:created>
  <dc:creator>Registered User</dc:creator>
  <dc:description/>
  <dc:language>en-US</dc:language>
  <cp:lastModifiedBy>Mike</cp:lastModifiedBy>
  <dcterms:modified xsi:type="dcterms:W3CDTF">2012-07-23T22:48:01Z</dcterms:modified>
  <cp:revision>12</cp:revision>
  <dc:subject/>
  <dc:title>Chapter 14</dc:title>
</cp:coreProperties>
</file>